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79BC-094E-41C1-A889-3F94B8FBF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CF83-32F2-49FD-BDFE-A392C4A429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20F-A9C8-4BB2-A23A-0879DA59E8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7BFF-2422-46C0-87D3-3E131432AA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36A-176D-4F7F-858C-3C9B7137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873-A321-4A70-8FBF-C256BD4F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A94-17BA-4A71-AD22-CEB2B837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1A8-1FA0-49AE-B29C-EF8356AF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43EA-FDD1-466C-89B8-0365A3B9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8767-131F-4A6D-877F-4E5073E4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665D-96B7-43A9-998F-C5227215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4DE9-93B9-4D82-A626-751E619A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7934-3CC9-4461-B001-D8E9D184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84D5-D41F-4F5D-8965-2205F781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FCE4-6177-4389-91BA-E74764BE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587-3875-4203-87D6-B16865C8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ED4E-3A16-43B7-904C-780E08E4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6D2B-031E-459A-AF50-CA65608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4FB9-F68D-47B8-8BDC-3F6BF48A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AA97-962F-49F0-B685-38DE1716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91C6-758E-4A48-A123-BA6D4FE2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B7CC-F439-446F-9C65-B386D4CF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0E85-1C6D-4CB6-80AA-93C96658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CAC0A-BAA7-4374-9335-48273D4A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D909-9756-4E53-8FE2-2CF2C203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5E27D-A2BE-4195-9DCA-02EBAF45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0A3-42F1-4E5A-9FB9-4C362DF6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7E73-CC78-4C6E-B1C3-743377DB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4754-A006-45A4-9621-5642284F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B302E-DDF2-41FC-9FBD-7123022A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564F7-4783-410E-BD39-938BDAE8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5C190-172F-47BA-9020-EC7C4648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E008A-EFA7-4DD6-B17F-32F272AD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B0E1-4AF5-4134-B3CF-58A2E334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FCBCD-74BE-4F04-A1B4-1549763A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F18BA-836C-4AE2-8DD4-583EF363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82548-C485-4154-9A4B-A2050911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D93-A152-4CF0-8F95-98BD9385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18793-760E-4DF9-871D-52DE829D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D2715-ED94-4B6D-B598-377176B1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D811-350A-455D-9E81-3E61F25B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A8943-0A0D-4703-AF37-7A641619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1A4E1-884B-4E04-A7E5-B58F5DC5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75817-F53C-4C6D-8D08-12EB5B41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07CB3-423E-4DD9-BB28-40E8D827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8F759-A0C1-45DF-A2E9-C2710FBE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3F0B-2191-403C-AF57-2C7895F7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72885-FA8D-4434-8E34-DD560125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FED-501B-468C-BBF6-6923BC90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7B949-8563-461D-981C-16764AF0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EBCE4-EBF6-4EAD-B214-62CAEF5A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BC166-BC83-408E-8DF0-12CF9218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41339-CB63-4EF1-AF7D-5EF00FA8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0F167-6152-4697-B511-B0446AC6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CBABE-DA00-4AED-909A-BE2CDC12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6D3DF-A2C6-41F3-A288-DF417AA7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019F-3209-4C48-97EF-9DB938E1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D2B76-31CF-418C-A42F-3BBAF71B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3CF38-1A37-4149-886F-D350D3C0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643-CF01-40DB-A7B6-CA269751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3C491-44F1-452B-A685-37D5FD5F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11814-625B-4942-9E9D-079F7667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A1591-40C3-49C3-9326-DCEE6610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A9220-6A09-468D-89F8-89ABCB16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AC6BF-96D9-46FE-A43F-5024770E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935AB-C3C9-43C4-BEA7-BFE9859C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0BD2C-78AA-4810-8EFB-D23FB92B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46774-45A2-48A0-ADC8-B1C301F1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D08AC-05D5-4BC2-88AE-877EAB61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FB1D5-431E-4D6A-9015-FCA2CF3B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213-3B33-4B8D-9A54-2B77310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EAB48-6E3D-4048-B443-18961852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EE54C-D29C-4798-973B-CE050DA4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F1D3C-A8F1-4428-81FE-F398D0C0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B85-9068-4390-A918-78B9D064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F3A-E5CC-4717-904C-3344E2A1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D286-7444-4C89-808B-3A9045A24BE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FA46-36DA-4836-87AD-BB87FB04D64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62FB-C19D-4731-9A93-18AEE29DD84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E167-DDD0-460D-82AA-85DF4682245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D093-ACA7-48ED-B006-5D3130F3F9B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57AE-0D52-4B2B-B90A-A689DCD0ADA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9" Type="http://schemas.openxmlformats.org/officeDocument/2006/relationships/image" Target="../media/image3.jpeg"/><Relationship Id="rId10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slideLayout" Target="../slideLayouts/slideLayout13.xml"/><Relationship Id="rId2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google.com/imgres?imgurl=http://www.fmschmitt.com/travels/Hawaii/Hawaiian-History/20070112_hawaii_oahu_iolani_palace_04.JPG&amp;imgrefurl=http://www.fmschmitt.com/travels/Hawaii/Hawaiian-History/index.html&amp;usg=__64IUcSiBvGFdV3SEXYujKFJwhnM=&amp;h=480&amp;w=640&amp;sz=90&amp;hl=en&amp;start=3&amp;zoom=0&amp;itbs=1&amp;tbnid=7JcqG8d59k_2uM:&amp;tbnh=103&amp;tbnw=137&amp;prev=/search%3Fq%3Drich%2Bwhite%2Bhouses%26hl%3Den%26sa%3DG%26as_st%3Dy%26tbs%3Diur:f%26tbm%3Disch&amp;ei=whvATfqFIsfw0gG9gqjuBA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9" Type="http://schemas.openxmlformats.org/officeDocument/2006/relationships/image" Target="../media/image3.jpeg"/><Relationship Id="rId10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hyperlink" Target="http://www.google.com/imgres?imgurl=http://www.fmschmitt.com/travels/Hawaii/Hawaiian-History/20070112_hawaii_oahu_iolani_palace_04.JPG&amp;imgrefurl=http://www.fmschmitt.com/travels/Hawaii/Hawaiian-History/index.html&amp;usg=__64IUcSiBvGFdV3SEXYujKFJwhnM=&amp;h=480&amp;w=640&amp;sz=90&amp;hl=en&amp;start=3&amp;zoom=0&amp;itbs=1&amp;tbnid=7JcqG8d59k_2uM:&amp;tbnh=103&amp;tbnw=137&amp;prev=/search%3Fq%3Drich%2Bwhite%2Bhouses%26hl%3Den%26sa%3DG%26as_st%3Dy%26tbs%3Diur:f%26tbm%3Disch&amp;ei=whvATfqFIsfw0gG9gqjuBA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5.jpe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384560" cy="397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"/>
              </a:rPr>
              <a:t>Elihu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with his wife and two slav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6324480" y="0"/>
            <a:ext cx="17528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Elihu Lock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8001000" y="0"/>
            <a:ext cx="11430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 Lockton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152280" y="2666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Elihu Lockton a messa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2209680" y="1905120"/>
            <a:ext cx="495324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S ARE  #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23, 174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lime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3"/>
          <p:cNvSpPr/>
          <p:nvPr/>
        </p:nvSpPr>
        <p:spPr>
          <a:xfrm>
            <a:off x="685800" y="664380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4"/>
          <p:cNvSpPr/>
          <p:nvPr/>
        </p:nvSpPr>
        <p:spPr>
          <a:xfrm>
            <a:off x="2590920" y="25146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y aunt house Lady Seymour house just caught on fire!!! Hope she is alright :/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iday, September 27,177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0481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y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hat meeting we just had a couple days ago was great. Can’t wait to see our plan work out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esday, April  5, 177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think that the slaves aren’t use to it yet! The younger one is possessed and we should get rid of her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day, April 2, 177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 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ent out for an evening with Anne Lockton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dnesday, May29, 177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I just bought two Jamaican slaves form Mr. Roberts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day, May 27, 177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56"/>
          <p:cNvSpPr/>
          <p:nvPr/>
        </p:nvSpPr>
        <p:spPr>
          <a:xfrm>
            <a:off x="4098240" y="5073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02" descr="http://www.awise.org/files/productsimages/BS_C/1023.jpg"/>
          <p:cNvPicPr/>
          <p:nvPr/>
        </p:nvPicPr>
        <p:blipFill>
          <a:blip r:embed="rId5"/>
          <a:stretch/>
        </p:blipFill>
        <p:spPr>
          <a:xfrm>
            <a:off x="152280" y="5334120"/>
            <a:ext cx="320760" cy="5331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8"/>
          <p:cNvSpPr/>
          <p:nvPr/>
        </p:nvSpPr>
        <p:spPr>
          <a:xfrm>
            <a:off x="2514600" y="3124080"/>
            <a:ext cx="47242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y,how is Isabel and Ruth doing? I was planning on coming down to see them but something has popped up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orr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ursday, April7, 177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45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685800"/>
            <a:ext cx="13906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8"/>
          <p:cNvSpPr/>
          <p:nvPr/>
        </p:nvSpPr>
        <p:spPr>
          <a:xfrm>
            <a:off x="0" y="58672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e Lockt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5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5120" y="2514600"/>
            <a:ext cx="600120" cy="460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5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05120" y="5181480"/>
            <a:ext cx="600120" cy="460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5" descr="See full 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905120" y="5791320"/>
            <a:ext cx="600120" cy="460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2" descr="http://www.awise.org/files/productsimages/BS_C/1023.jpg"/>
          <p:cNvPicPr/>
          <p:nvPr/>
        </p:nvPicPr>
        <p:blipFill>
          <a:blip r:embed="rId14"/>
          <a:stretch/>
        </p:blipFill>
        <p:spPr>
          <a:xfrm>
            <a:off x="1981080" y="44956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0" descr="T:\elizabeth and alysa\images[1].jpg"/>
          <p:cNvPicPr/>
          <p:nvPr/>
        </p:nvPicPr>
        <p:blipFill>
          <a:blip r:embed="rId15"/>
          <a:stretch/>
        </p:blipFill>
        <p:spPr>
          <a:xfrm>
            <a:off x="1981080" y="3809880"/>
            <a:ext cx="462240" cy="628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0" descr="T:\elizabeth and alysa\images[1].jpg"/>
          <p:cNvPicPr/>
          <p:nvPr/>
        </p:nvPicPr>
        <p:blipFill>
          <a:blip r:embed="rId16"/>
          <a:stretch/>
        </p:blipFill>
        <p:spPr>
          <a:xfrm>
            <a:off x="914400" y="5334120"/>
            <a:ext cx="380880" cy="519120"/>
          </a:xfrm>
          <a:prstGeom prst="rect">
            <a:avLst/>
          </a:prstGeom>
          <a:ln w="0">
            <a:noFill/>
          </a:ln>
        </p:spPr>
      </p:pic>
      <p:sp>
        <p:nvSpPr>
          <p:cNvPr id="310" name="TextBox 52"/>
          <p:cNvSpPr/>
          <p:nvPr/>
        </p:nvSpPr>
        <p:spPr>
          <a:xfrm>
            <a:off x="914400" y="58672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ay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1" descr="T:\elizabeth and alysa\images[11].jpg"/>
          <p:cNvPicPr/>
          <p:nvPr/>
        </p:nvPicPr>
        <p:blipFill>
          <a:blip r:embed="rId17"/>
          <a:stretch/>
        </p:blipFill>
        <p:spPr>
          <a:xfrm>
            <a:off x="1905120" y="3048120"/>
            <a:ext cx="560160" cy="533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1" descr="T:\elizabeth and alysa\images[11].jpg"/>
          <p:cNvPicPr/>
          <p:nvPr/>
        </p:nvPicPr>
        <p:blipFill>
          <a:blip r:embed="rId18"/>
          <a:stretch/>
        </p:blipFill>
        <p:spPr>
          <a:xfrm>
            <a:off x="152280" y="60958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58"/>
          <p:cNvSpPr/>
          <p:nvPr/>
        </p:nvSpPr>
        <p:spPr>
          <a:xfrm>
            <a:off x="0" y="64771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r. Rober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56" descr="T:\elizabeth and alysa\4096251250_01a06efb56[1].jpg"/>
          <p:cNvPicPr/>
          <p:nvPr/>
        </p:nvPicPr>
        <p:blipFill>
          <a:blip r:embed="rId19"/>
          <a:stretch/>
        </p:blipFill>
        <p:spPr>
          <a:xfrm>
            <a:off x="1066680" y="6095880"/>
            <a:ext cx="325440" cy="5335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60"/>
          <p:cNvSpPr/>
          <p:nvPr/>
        </p:nvSpPr>
        <p:spPr>
          <a:xfrm>
            <a:off x="914400" y="66880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Seymou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61"/>
          <p:cNvSpPr/>
          <p:nvPr/>
        </p:nvSpPr>
        <p:spPr>
          <a:xfrm>
            <a:off x="762120" y="50292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3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62"/>
          <p:cNvSpPr/>
          <p:nvPr/>
        </p:nvSpPr>
        <p:spPr>
          <a:xfrm>
            <a:off x="2438280" y="190512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day I went to visit my aunt 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58"/>
          <p:cNvSpPr/>
          <p:nvPr/>
        </p:nvSpPr>
        <p:spPr>
          <a:xfrm>
            <a:off x="2971800" y="11430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Rectangle 5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1384560" cy="4032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7524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"/>
              </a:rPr>
              <a:t>Elihu Lockto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with his and two slaves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"/>
              </a:rPr>
              <a:t>Elihu Lockt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 Lockton 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Lockton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152280" y="3581280"/>
            <a:ext cx="16002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yalists are #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23, 174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2"/>
          <p:cNvSpPr/>
          <p:nvPr/>
        </p:nvSpPr>
        <p:spPr>
          <a:xfrm>
            <a:off x="152280" y="51814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hotos (2 album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34"/>
          <p:cNvSpPr/>
          <p:nvPr/>
        </p:nvSpPr>
        <p:spPr>
          <a:xfrm>
            <a:off x="2209680" y="1752480"/>
            <a:ext cx="312444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yalists are #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</a:t>
            </a:r>
            <a:r>
              <a:rPr b="0" lang="en-US" sz="1000" spc="-1" strike="noStrike">
                <a:solidFill>
                  <a:srgbClr val="959ebd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23, 174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London, Eng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ried to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</a:rPr>
              <a:t>Anne Lockt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Parlia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35"/>
          <p:cNvSpPr/>
          <p:nvPr/>
        </p:nvSpPr>
        <p:spPr>
          <a:xfrm>
            <a:off x="2133720" y="3200400"/>
            <a:ext cx="4495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etings, time with partners, spends time with wif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reading, being in charge,  being protect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foo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ta, turtle soup, brea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drink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water, apple juice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7"/>
          <p:cNvSpPr/>
          <p:nvPr/>
        </p:nvSpPr>
        <p:spPr>
          <a:xfrm>
            <a:off x="762120" y="5486400"/>
            <a:ext cx="83808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af0a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af0a"/>
                </a:solidFill>
                <a:latin typeface="Arial"/>
              </a:rPr>
              <a:t>The lockotn’s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 hours ag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2133720" y="5029200"/>
            <a:ext cx="4495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384 Rhode Island, New  York103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                1917-979-973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36" descr="http://t2.gstatic.com/images?q=tbn:ANd9GcT5eR33xi-_jN6jsdKsi94z94-6dQOdyZO5eRbrokXSGSmcY2qZ-Q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6095880"/>
            <a:ext cx="709560" cy="533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5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380880"/>
            <a:ext cx="1314360" cy="990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5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5486400"/>
            <a:ext cx="552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09480" y="4952880"/>
            <a:ext cx="289584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Rectangle 5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1384560" cy="4032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4">
            <a:hlinkClick r:id="rId2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5">
            <a:hlinkClick r:id="rId3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8"/>
          <p:cNvSpPr/>
          <p:nvPr/>
        </p:nvSpPr>
        <p:spPr>
          <a:xfrm>
            <a:off x="152280" y="1828800"/>
            <a:ext cx="746784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"/>
              </a:rPr>
              <a:t>Photos of Locktons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pho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Lockton’s hou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pho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phot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"/>
              </a:rPr>
              <a:t>Elihu Locktons</a:t>
            </a:r>
            <a:r>
              <a:rPr b="0" lang="en-US" sz="1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with his wife and two slave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685800" y="47242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"/>
              </a:rPr>
              <a:t>Lockton’s Albums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 Photo album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100" descr=""/>
          <p:cNvPicPr/>
          <p:nvPr/>
        </p:nvPicPr>
        <p:blipFill>
          <a:blip r:embed="rId4"/>
          <a:stretch/>
        </p:blipFill>
        <p:spPr>
          <a:xfrm>
            <a:off x="3581280" y="49528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9" descr="T:\elizabeth and alysa\images[1].jpg"/>
          <p:cNvPicPr/>
          <p:nvPr/>
        </p:nvPicPr>
        <p:blipFill>
          <a:blip r:embed="rId5"/>
          <a:stretch/>
        </p:blipFill>
        <p:spPr>
          <a:xfrm>
            <a:off x="685800" y="2057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3" descr="T:\elizabeth and alysa\14CCA28Q90HCAVJX29XCAXWZHJDCAVDH0GCCAZTHZ7ZCAI4AKDRCAO91KT0CA7SR4A2CAZI253JCAAL6Z55CAXKLNHFCALB3X0YCAJJSD2BCA010KMECAVBP30FCAUCA455CA7XAF5JCA4MEC9UCA5O3ZCQ.jpg"/>
          <p:cNvPicPr/>
          <p:nvPr/>
        </p:nvPicPr>
        <p:blipFill>
          <a:blip r:embed="rId6"/>
          <a:stretch/>
        </p:blipFill>
        <p:spPr>
          <a:xfrm>
            <a:off x="2209680" y="20574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6" descr="http://t2.gstatic.com/images?q=tbn:ANd9GcT5eR33xi-_jN6jsdKsi94z94-6dQOdyZO5eRbrokXSGSmcY2qZ-Q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33720" y="5181480"/>
            <a:ext cx="1216080" cy="914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5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8088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5" descr="See full size image"/>
          <p:cNvPicPr/>
          <p:nvPr/>
        </p:nvPicPr>
        <p:blipFill>
          <a:blip r:embed="rId11"/>
          <a:stretch/>
        </p:blipFill>
        <p:spPr>
          <a:xfrm>
            <a:off x="3657600" y="198108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5" descr="See full size image"/>
          <p:cNvPicPr/>
          <p:nvPr/>
        </p:nvPicPr>
        <p:blipFill>
          <a:blip r:embed="rId12"/>
          <a:stretch/>
        </p:blipFill>
        <p:spPr>
          <a:xfrm>
            <a:off x="838080" y="5105520"/>
            <a:ext cx="933480" cy="1066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0" descr="T:\elizabeth and alysa\images[1].jpg"/>
          <p:cNvPicPr/>
          <p:nvPr/>
        </p:nvPicPr>
        <p:blipFill>
          <a:blip r:embed="rId13"/>
          <a:stretch/>
        </p:blipFill>
        <p:spPr>
          <a:xfrm>
            <a:off x="2133720" y="3144960"/>
            <a:ext cx="914400" cy="1245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6" descr="T:\elizabeth and alysa\4096251250_01a06efb56[1].jpg"/>
          <p:cNvPicPr/>
          <p:nvPr/>
        </p:nvPicPr>
        <p:blipFill>
          <a:blip r:embed="rId14"/>
          <a:stretch/>
        </p:blipFill>
        <p:spPr>
          <a:xfrm>
            <a:off x="838080" y="3124080"/>
            <a:ext cx="630360" cy="1295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33"/>
          <p:cNvSpPr/>
          <p:nvPr/>
        </p:nvSpPr>
        <p:spPr>
          <a:xfrm>
            <a:off x="1752480" y="11430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4T12:29:15Z</dcterms:modified>
  <cp:revision>41</cp:revision>
  <dc:subject/>
  <dc:title>Profile</dc:title>
</cp:coreProperties>
</file>